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867-4188-4BC6-A6E3-FA9C168E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42B-0849-457E-917E-78C8B20F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799-90BD-4FA2-8BDA-6355151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80A-EC48-4394-AF3C-F51A3833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DCD6-E219-48EC-B55D-B129C76B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0B93-E1E9-4D2F-A504-3B65F3BF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AF34-4F11-419E-A662-D8E7E32A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D852-99DA-4E8C-9A1D-CCCB4AB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9F23-1CC6-4549-AA5F-A5AB0B5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FCF3-6543-4CE6-A0F3-600D3C72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8C2-5EB7-413C-84C6-B69BEDB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D41-0933-424B-BE8C-871010E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59B8-78BE-45BB-8B18-18EF56E1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71C-62F6-4192-813D-F13B0D3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854-BD6E-4ADC-804B-EF8EC604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189C-E3D3-46F3-AC8E-227DE2B5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4767-5B37-4B0B-9650-31CC1DA1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A9A-55DC-4FD8-9394-10B5B836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F7C-1778-4AE2-8402-19F5F7A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C3F-AD48-4EA0-AFA6-DD8D64FA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3D9-CF45-43AB-B58C-E2AAD56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FCD-09B4-4384-BB9D-C065094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807-05D2-4F02-9C1C-8C0D771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73A-941C-44F1-BC32-90AF08F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D9F2-35AB-441A-A597-1DAF05C64F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FC13-6C83-423A-BA7E-BC7AE7B18E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D:\Exposition.doc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D:\Discussion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D:\Response.do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../Response.doc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plan.edu.au/writing_2011_-_domains.html" TargetMode="External"/><Relationship Id="rId2" Type="http://schemas.openxmlformats.org/officeDocument/2006/relationships/hyperlink" Target="http://www.naplan.edu.au/verve/_resources/NAPLAN_2011_Writing_Fact_Sheet.pdf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aplan.edu.au/verve/_resources/persuasive_prompt.pdf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classroom-resources/student-interactives/persuasion-30034.html" TargetMode="External"/><Relationship Id="rId2" Type="http://schemas.openxmlformats.org/officeDocument/2006/relationships/hyperlink" Target="http://www.writingfun.com/writingfun2010.html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6699"/>
                </a:solidFill>
                <a:latin typeface="Verdana"/>
              </a:rPr>
              <a:t>TEACHING WRITING: Persuasive Text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Curriculum Team C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What do we ask of our students?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ddle clas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glo Saxo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47640" y="3789360"/>
            <a:ext cx="640908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language of 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Structure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Exposi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thesis or pos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a series of paragraphs to argue the pos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 up, restate the position or provide a recommend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Grammar-Exposi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noun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ears zo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 noun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policy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word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peci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nim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ting verb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It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ion 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We  must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nking 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Many peopl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al 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W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re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al ad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ertainl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we must 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nectiv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firstly second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ive language important signific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Structure -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Discuss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State the iss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A series of paragraphs to argue for the iss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A series of paragraphs to argue against the iss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Concludes by summing up or providing a recommend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Grammar - Discuss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nouns       uniforms   alcoh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ting verbs       is are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nking verbs       feel believe h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n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tiv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simil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astiv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on the other h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usa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how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un group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unwanted kitt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ali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 perhaps must should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verbs of manner deliberately hopefu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Structure_</a:t>
            </a:r>
            <a:br>
              <a:rPr sz="4000"/>
            </a:br>
            <a:r>
              <a:rPr b="0" lang="en-US" sz="40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Personal Respons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ext for the respon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s an opinion or reac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Grammar – 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Personal Respons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l types of ver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un groups describing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sent tense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t tense if historical set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mporal sequence of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uasive language used in jud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use or sentence themes that are often title of the book. Auth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Structure -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Review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ext – giving information about author, work, setting and summar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agraphs describing main characters, relationships and theme of tex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udgement by evaluating the work giving opinion or recommend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Grammar - Review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 per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B. Students are encouraged to speak and write Personal responses in Stage 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y stages 2 and 3, students should be speaking and writing re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Language features / Grammar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inion ad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ised nou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ords that qualify-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usually, probably, some, m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nectives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also, another reason, as well, however, theref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nking &amp; feeling ver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otive language-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hero, champion, bloodshed, disa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jectives (mod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valuative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junc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2011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NAPLAN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</a:rPr>
              <a:t> Writing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the 2011 NAPLAN Writing test, students in Years 3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, 7 and 9 will write a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ersuasiv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ex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uasive writing is writing in which the writer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vince someone of his or her point of view 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in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 example, a student may be asked wh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ding books or watching TV is bett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tudent would present his or her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in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pic and would includ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easons for th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in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writing this way, the student is attempting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ersuade the reader to agree with his or her opinion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http://www.naplan.edu.au/verve/_resources/NAPLAN_2011_Writing_Fact_Sheet.pd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Persuasive Texts-Crite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riter’s capacity to orient, engage and persuade the 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xt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organisation of the structural components of a persuasive text (introduction, body and conclusion) into an appropriate and effective text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reation, selection and crafting of ideas for a persuasive arg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uasiv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use of a range of persuasive devices to enhance the writer’s position and persuade the 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ange and precision of language cho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he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ontrol of multiple threads and relationships over the whole text, achieved through the use of referring words, substitutions, word associations and text conn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agrap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egmenting of text into paragraphs that assists the reader to follow the line of arg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ntence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roduction of grammatically correct, structurally sound and meaningful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nct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use of correct and appropriate punctuation to aid the reading of the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ccuracy of spelling and the difficulty of the word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Verdana"/>
              </a:rPr>
              <a:t>Assisting students in improving their 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Sample Task 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www.naplan.edu.au/verve/_resources/persuasive_prompt.pd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Useful websit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www.readwritethink.org/classroom-resources/student-interactives/persuasion-30034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http://www.writingfun.com/writingfun2010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loring the Modu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What is the expectation for each stag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ersuasive writing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ic and task will be the same for Years 3 5 7 and 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will be marked in a way that closely resembles narrative writing as  there is common criter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Talking &amp; liste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99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ff9900"/>
                </a:solidFill>
                <a:latin typeface="Verdana"/>
              </a:rPr>
              <a:t>“</a:t>
            </a:r>
            <a:r>
              <a:rPr b="1" i="1" lang="en-AU" sz="3200" spc="-1" strike="noStrike">
                <a:solidFill>
                  <a:srgbClr val="ff9900"/>
                </a:solidFill>
                <a:latin typeface="Verdana"/>
              </a:rPr>
              <a:t>In the literate citizen…..all these repertoires are variously mixed and orchestrated in proficient reading and writing, speaking and listening, viewing and representing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9900"/>
                </a:solidFill>
                <a:latin typeface="Verdana"/>
              </a:rPr>
              <a:t>Luke and Freebody 199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Not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ever the word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text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ed it includ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ritten, visual, oral/aural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gital and multimodal tex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5318280"/>
            <a:ext cx="1698480" cy="153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2027160" cy="1352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1280" y="836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666699"/>
                </a:solidFill>
                <a:latin typeface="Verdana"/>
              </a:rPr>
              <a:t>Persuasive vs Narrativ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uasive writing assesses rhetorical techniques (writer’s viewpoi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arrative writing assesses the development of character and setting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76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*Text types /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504800"/>
          <a:ext cx="8075520" cy="5050080"/>
        </p:xfrm>
        <a:graphic>
          <a:graphicData uri="http://schemas.openxmlformats.org/drawingml/2006/table">
            <a:tbl>
              <a:tblPr/>
              <a:tblGrid>
                <a:gridCol w="2087280"/>
                <a:gridCol w="598824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esent an opinion; to argue a case for or against a particular position or point of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ook at more than one side of an issue; to present arguments for and against a position, based on evidence,  before coming to a con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mmarise and respond personally to a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mmarise / analyse a literary text and assess its appeal an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Activity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sk 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3368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05:41:43Z</dcterms:created>
  <dc:creator>trish.gleeson</dc:creator>
  <dc:description/>
  <dc:language>en-US</dc:language>
  <cp:lastModifiedBy>catherine.murray</cp:lastModifiedBy>
  <dcterms:modified xsi:type="dcterms:W3CDTF">2010-08-19T23:08:11Z</dcterms:modified>
  <cp:revision>11</cp:revision>
  <dc:subject/>
  <dc:title>TEACHING WRITING: Persuasive Text</dc:title>
</cp:coreProperties>
</file>